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36E-4BAD-47C8-840E-F7DD960A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C71-FE07-4331-97D5-333051A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BC6-8EC2-4E58-ADE2-A31F9B5E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FDB-1D4D-404F-9425-977C8B6D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CE3-EEAA-4BBE-9A52-AD7339F0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CB2-5C62-4B75-8935-501DEF7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F2F-6796-437D-A261-68CE13F3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C30-B7F5-4C12-8797-B194999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655-4B30-4A0C-8DC4-AC76D0E7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BCA-337C-4CA8-92BB-40C6D42E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980-D9F4-48F5-86CA-4B208EE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7FD-E282-4373-937F-52EE8CE2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9DD4-6153-4BD1-A2DF-ACB8C546A3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jpe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341360"/>
            <a:ext cx="813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мся работать с текстом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19640" y="2997360"/>
            <a:ext cx="193032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6360" y="393372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ка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836640"/>
            <a:ext cx="82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Дятел долбит древний дуб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_________ дятел дубу лю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484280"/>
            <a:ext cx="239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Добр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2781360"/>
            <a:ext cx="2522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55592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Синие ___________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4922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Просто __________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284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Волшебное _______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42195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Три ____________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87640" y="1843200"/>
            <a:ext cx="2394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лист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59280" y="2563920"/>
            <a:ext cx="302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старуш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11640" y="3500280"/>
            <a:ext cx="210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слов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27280" y="4435560"/>
            <a:ext cx="32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товарищ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055680" cy="3745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9280" y="4292640"/>
            <a:ext cx="669780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алентина Александр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ее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9810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усская писательница. Стихи, сказки, рассказы для малышей. Трилогия «Васек Трубачев» (1947 - 1952) - о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жизни детей во время Великой Отечественной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826920" y="981000"/>
            <a:ext cx="5897880" cy="5019840"/>
            <a:chOff x="826920" y="981000"/>
            <a:chExt cx="5897880" cy="5019840"/>
          </a:xfrm>
        </p:grpSpPr>
        <p:sp>
          <p:nvSpPr>
            <p:cNvPr id="64" name=""/>
            <p:cNvSpPr/>
            <p:nvPr/>
          </p:nvSpPr>
          <p:spPr>
            <a:xfrm>
              <a:off x="826920" y="981000"/>
              <a:ext cx="5897880" cy="501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253600" y="2751840"/>
              <a:ext cx="2942280" cy="67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. Осеев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1540080" y="3548880"/>
              <a:ext cx="3869640" cy="73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Добрая хозяюш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3"/>
            <a:srcRect l="7415" t="9114" r="7945" b="7189"/>
            <a:stretch/>
          </p:blipFill>
          <p:spPr>
            <a:xfrm>
              <a:off x="1005120" y="1157760"/>
              <a:ext cx="196164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rcRect l="8369" t="10077" r="7998" b="9435"/>
            <a:stretch/>
          </p:blipFill>
          <p:spPr>
            <a:xfrm>
              <a:off x="4572000" y="4257000"/>
              <a:ext cx="1961640" cy="155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292720" y="3789360"/>
            <a:ext cx="3435480" cy="2617920"/>
            <a:chOff x="5292720" y="3789360"/>
            <a:chExt cx="3435480" cy="2617920"/>
          </a:xfrm>
        </p:grpSpPr>
        <p:sp>
          <p:nvSpPr>
            <p:cNvPr id="71" name=""/>
            <p:cNvSpPr/>
            <p:nvPr/>
          </p:nvSpPr>
          <p:spPr>
            <a:xfrm>
              <a:off x="5292720" y="3789360"/>
              <a:ext cx="3435480" cy="2617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92720" y="3789360"/>
              <a:ext cx="3403080" cy="259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611280" y="404640"/>
            <a:ext cx="3095640" cy="2519640"/>
            <a:chOff x="611280" y="404640"/>
            <a:chExt cx="3095640" cy="2519640"/>
          </a:xfrm>
        </p:grpSpPr>
        <p:sp>
          <p:nvSpPr>
            <p:cNvPr id="74" name=""/>
            <p:cNvSpPr/>
            <p:nvPr/>
          </p:nvSpPr>
          <p:spPr>
            <a:xfrm>
              <a:off x="611280" y="404640"/>
              <a:ext cx="3095640" cy="248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611280" y="404640"/>
              <a:ext cx="3095640" cy="251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4"/>
          <a:srcRect l="8475" t="10270" r="7945" b="9628"/>
          <a:stretch/>
        </p:blipFill>
        <p:spPr>
          <a:xfrm>
            <a:off x="5651640" y="404640"/>
            <a:ext cx="2970000" cy="247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611280" y="3789360"/>
            <a:ext cx="3097080" cy="2629080"/>
            <a:chOff x="611280" y="3789360"/>
            <a:chExt cx="3097080" cy="2629080"/>
          </a:xfrm>
        </p:grpSpPr>
        <p:sp>
          <p:nvSpPr>
            <p:cNvPr id="78" name=""/>
            <p:cNvSpPr/>
            <p:nvPr/>
          </p:nvSpPr>
          <p:spPr>
            <a:xfrm>
              <a:off x="611280" y="3789360"/>
              <a:ext cx="3097080" cy="2629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41160" y="3872880"/>
              <a:ext cx="3067200" cy="254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916360" y="1844640"/>
            <a:ext cx="3543120" cy="2554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xit" presetID="35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333360"/>
            <a:ext cx="85694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правилась девочке уточка. Стала девочка с удочкой дружить. Хотят вместе на речку кутаться. Выйдет девочка на бережок – удочка за н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слыхала удочка, затопала крыльями, закричала, да делать нечего. Взял ее сосуд, сунул под мушку и уне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Поладила девочка щенка и говор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Выл у меня петушок – я за него курочку взяла, выла курочка – я ее на уточку отдала, теперь удочку за щенка применя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Услышал это щенок, пожал хвост, спрятался под лавку, а ночью открыл лапой дверь и убежа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08000" y="404640"/>
            <a:ext cx="2001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1280" y="836640"/>
            <a:ext cx="2728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780000" y="836640"/>
            <a:ext cx="1998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308720" y="836640"/>
            <a:ext cx="2001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64000" y="1268280"/>
            <a:ext cx="2732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76720" y="1844640"/>
            <a:ext cx="2728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3280" y="1773360"/>
            <a:ext cx="273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х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48360" y="2205000"/>
            <a:ext cx="273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3280" y="2637000"/>
            <a:ext cx="273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835280" y="2997360"/>
            <a:ext cx="21564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г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76360" y="3716280"/>
            <a:ext cx="273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Б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76360" y="4149720"/>
            <a:ext cx="273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б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3280" y="4221000"/>
            <a:ext cx="2732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з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4653000"/>
            <a:ext cx="2728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19280" y="4581360"/>
            <a:ext cx="2016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92360" y="4581360"/>
            <a:ext cx="20016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76720" y="4941720"/>
            <a:ext cx="2732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5292720" y="3789360"/>
            <a:ext cx="3435480" cy="2617920"/>
            <a:chOff x="5292720" y="3789360"/>
            <a:chExt cx="3435480" cy="2617920"/>
          </a:xfrm>
        </p:grpSpPr>
        <p:sp>
          <p:nvSpPr>
            <p:cNvPr id="102" name=""/>
            <p:cNvSpPr/>
            <p:nvPr/>
          </p:nvSpPr>
          <p:spPr>
            <a:xfrm>
              <a:off x="5292720" y="3789360"/>
              <a:ext cx="3435480" cy="2617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292720" y="3789360"/>
              <a:ext cx="3403080" cy="259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611280" y="404640"/>
            <a:ext cx="3095640" cy="2519640"/>
            <a:chOff x="611280" y="404640"/>
            <a:chExt cx="3095640" cy="2519640"/>
          </a:xfrm>
        </p:grpSpPr>
        <p:sp>
          <p:nvSpPr>
            <p:cNvPr id="105" name=""/>
            <p:cNvSpPr/>
            <p:nvPr/>
          </p:nvSpPr>
          <p:spPr>
            <a:xfrm>
              <a:off x="611280" y="404640"/>
              <a:ext cx="3095640" cy="2482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611280" y="404640"/>
              <a:ext cx="3095640" cy="251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4"/>
          <a:srcRect l="8475" t="10270" r="7945" b="9628"/>
          <a:stretch/>
        </p:blipFill>
        <p:spPr>
          <a:xfrm>
            <a:off x="5651640" y="404640"/>
            <a:ext cx="2970000" cy="247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108" name=""/>
          <p:cNvGrpSpPr/>
          <p:nvPr/>
        </p:nvGrpSpPr>
        <p:grpSpPr>
          <a:xfrm>
            <a:off x="611280" y="3789360"/>
            <a:ext cx="3097080" cy="2629080"/>
            <a:chOff x="611280" y="3789360"/>
            <a:chExt cx="3097080" cy="2629080"/>
          </a:xfrm>
        </p:grpSpPr>
        <p:sp>
          <p:nvSpPr>
            <p:cNvPr id="109" name=""/>
            <p:cNvSpPr/>
            <p:nvPr/>
          </p:nvSpPr>
          <p:spPr>
            <a:xfrm>
              <a:off x="611280" y="3789360"/>
              <a:ext cx="3097080" cy="2629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1160" y="3872880"/>
              <a:ext cx="3067200" cy="254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rcRect l="8384" t="10076" r="6686" b="102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репкую дружбу и водой не разольеш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1197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т друга ищи, а нашел – бере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91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узья познаются в бе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99960" y="324576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зья познаются в б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781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тица сильна крыльями, а человек – друж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743280" cy="263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4923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02:22Z</dcterms:created>
  <dc:creator>Алексей</dc:creator>
  <dc:description/>
  <dc:language>en-US</dc:language>
  <cp:lastModifiedBy>Алексей</cp:lastModifiedBy>
  <dcterms:modified xsi:type="dcterms:W3CDTF">2008-03-18T12:52:37Z</dcterms:modified>
  <cp:revision>10</cp:revision>
  <dc:subject/>
  <dc:title>Слайд 1</dc:title>
</cp:coreProperties>
</file>